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MSSN00824A0000%5B1%5D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51FE-0595-46F0-8356-A9D8ABED0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1198-47C3-494F-9B67-35F9CAD53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F2B1-1D77-4860-A3C5-2F6AC2CBF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1975E-E0A7-49DF-BA64-47EDB3FF4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23EB2-1354-492D-8E08-0FC12B9BA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55F04-8129-47FF-A041-1314BBE2F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3AB9-91E7-4BDC-9667-E77E26A8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9090-7156-4F59-8611-E2ABFC8FE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E2516-02B5-41AE-8F19-A062B1F5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7B29F-C9DF-494A-BE7C-4A9DDFA69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AC54B-B07A-46A6-B7CB-47C64E19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366D-CEE8-47C9-9EC6-5EAD2C623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9CD73-2EC6-43D7-81A2-C6B7FA98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ED4B-54DA-4592-A7C1-8CB49175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9834-A19C-42B1-A27F-46A71AB5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3D4C5-923C-4662-B62F-1C31887EC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0736-4B54-4AAD-9C7A-009BD2F7F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07F2-14CE-47DF-B055-79E243DF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71AE-C3D9-4294-BCB6-2AE1EB63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6F89-F834-4787-98DF-F50A779F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7839-52CE-44AC-8817-62017ED49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37B1-6BC0-432F-9634-17928E98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6983-0147-46E8-BE72-DD582D37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80BB-842F-4A18-9FDC-119F5578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1A1E3-9A08-4A33-B51E-DFF4EAF6F7F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76087-8632-432F-A864-B16F43BFE95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simonhakim@temple.edu?subject=Alarms" TargetMode="External"/><Relationship Id="rId3" Type="http://schemas.openxmlformats.org/officeDocument/2006/relationships/hyperlink" Target="http://www.sbm.temple.edu/ccg" TargetMode="External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audio" Target="../media/MSSN00824A0000%5B1%5D.wav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foxlogo" descr=""/>
          <p:cNvPicPr/>
          <p:nvPr/>
        </p:nvPicPr>
        <p:blipFill>
          <a:blip r:embed="rId1">
            <a:lum contrast="12000"/>
          </a:blip>
          <a:srcRect l="0" t="-120000" r="0" b="0"/>
          <a:stretch/>
        </p:blipFill>
        <p:spPr>
          <a:xfrm>
            <a:off x="2971800" y="0"/>
            <a:ext cx="3429000" cy="22096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819520" y="2209680"/>
            <a:ext cx="3733560" cy="368280"/>
          </a:xfrm>
          <a:prstGeom prst="rect">
            <a:avLst/>
          </a:prstGeom>
          <a:solidFill>
            <a:srgbClr val="ffffff">
              <a:alpha val="9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nter for Competitive Govern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43000" y="2895480"/>
            <a:ext cx="71629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r. Simon Hakim, Dire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enter for Competitive Gover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Fox School of Business &amp;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mple Univers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>
            <a:hlinkClick r:id="rId2"/>
          </p:cNvPr>
          <p:cNvSpPr/>
          <p:nvPr/>
        </p:nvSpPr>
        <p:spPr>
          <a:xfrm>
            <a:off x="4419720" y="6324480"/>
            <a:ext cx="426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 Black"/>
              </a:rPr>
              <a:t>E-mail:  simonhakim@temple.ed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rId3"/>
          </p:cNvPr>
          <p:cNvSpPr/>
          <p:nvPr/>
        </p:nvSpPr>
        <p:spPr>
          <a:xfrm>
            <a:off x="4419720" y="5943600"/>
            <a:ext cx="426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http://www.sbm.temple.edu/ccg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1491-ACD9-4F0A-B54B-5AA0256D0A44}" type="slidenum">
              <a:t>1</a:t>
            </a:fld>
          </a:p>
        </p:txBody>
      </p:sp>
    </p:spTree>
  </p:cSld>
  <p:transition spd="slow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an we increase net benefits to the community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fficie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duce number of false activa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duce cost of respon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qu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oss subsidization between false activator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nd non alarm owners/non-activato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523880"/>
            <a:ext cx="762012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C392-7D94-4133-963C-8DCD8605635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Is response to Alarms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 public good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 valid alarm is a public goo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duce pool of burgla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terrence for other burgla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pprehension-punish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 false alarm is a private goo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stomer is identified and response is a private serv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o others in the community benefi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nefits foregone–displacing other worthwhile police activit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1523880"/>
            <a:ext cx="723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CD31-D8A3-4BB1-9FAE-1A88189A9CB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lternative 1:  Do Nothing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lice deliver private service, causing cross subsidiz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cing of response is not based on cos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lice treat alarm response at low priority, thus reducing the effectiveness of alar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uses  congestion on emergency communication system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onse to other events takes long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istration of systems is bureaucratic, costly and unnecessar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iolators are treated as criminals rather than custom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1219320"/>
            <a:ext cx="7315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0482-0E00-4C3F-A963-B54871E949D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Alternative 2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Managed Competi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ice maintain respon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low private companies to respo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ce at cost. No escalating fees, no free response. Charge all targets at cos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erci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identi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blic and religio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990720" y="1600200"/>
            <a:ext cx="708660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D464-FE79-4D0B-A2A6-CD272EC2F9A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lternative 2: 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(Continued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business of response. Revenues of false alarms should be credited to the police accoun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istration fees should be eliminated.  Fees collected for no service rendered yields unjustified tax on alarm own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Comm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olution is likely to occur in rural/small suburban localities where the market is too small for private firm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914400" y="1371600"/>
            <a:ext cx="731520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04B8-21C0-41C4-BC1F-7B3FCCA1E771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lternative 2  </a:t>
            </a: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(Continued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ahoma"/>
              </a:rPr>
              <a:t>Benefit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ice act as a business where it is not a public goo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roduction of competition improves efficiency, enhances consumer welfare, and stimulates introduction of technolog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1371600"/>
            <a:ext cx="723888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D8C4-4EA7-4CA2-AAB2-E02FA7D8C19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lternative 3 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Verified Respons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8487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ice respond only after physical verif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lice respond only to real event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 licensing or private certification of guards and companies . (license guard companies, certify U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gistration of alarms is unnecessa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1523880"/>
            <a:ext cx="685800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3A36-3A0A-4629-ACA5-454D1DDE179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enefits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ompetition among responders results in choice of price/quality packag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Faster response by private companies and polic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atrol cars respond faster to other emergenci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Less congestion on 911 or on other emergency communication system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onsumers have greater incentives to adopt video/audio technology to save on respons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olice perform public duties for which they are responsible and trained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reat alarm activators as customers rather than criminal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1295280"/>
            <a:ext cx="731520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26F5-BB40-4AF0-9B3B-0BBDA9021DA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riteria for Succes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vate Respon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asible if in high density area and/or high value establishments/are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asible if bundled with other services: Patrol, vacation services, stationary guard, locking/un-locking building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lice do not offer free response or price response below its own cos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lice cooperate by raising priority for verified cas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19320"/>
            <a:ext cx="731520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1572-034F-48DD-868E-D41E93B72450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Private Respons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Evid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Private response time ranges from 5 to 30 minutes, almost all under 20 minutes. Average police response-40 minutes (our survey; SLC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e cost of response is less than half that of police. Average cost of police is $50-$60 (our work)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Reduce congestion on 911 and improve police response to other emergenci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No evidence of misconduct or consumer complaints with respect to private response companie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1219320"/>
            <a:ext cx="670572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85F6-8F81-4A9E-9EC1-59DC8B709E9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Arial Black"/>
              </a:rPr>
              <a:t>POP CONFERENCE</a:t>
            </a:r>
            <a:br>
              <a:rPr sz="4000"/>
            </a:br>
            <a:r>
              <a:rPr b="0" lang="en-US" sz="3600" spc="-1" strike="noStrike">
                <a:solidFill>
                  <a:srgbClr val="ffcc66"/>
                </a:solidFill>
                <a:latin typeface="Arial Black"/>
              </a:rPr>
              <a:t>OCTOBER 28, 2004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valuating Alternative Polic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o Combat False Emergency Call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Presented by: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imon Hakim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it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rwin A. Blackston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drew J. Buc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086600" y="1143000"/>
            <a:ext cx="1808280" cy="8352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610480" y="380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AD2E-2D0E-487B-8AFC-8246D2EC0E3A}" type="slidenum">
              <a:t>2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SSN00824A0000%5B1%5D.wav"/>
                                        </p:tgtEl>
                                      </p:cMediaNode>
                                    </p:audio>
                                    <p:animMotion origin="layout" path="M -0.11319 0.02035 C -0.15798 0.03191 -0.22274 0.02058 -0.271 0.0222 C -0.29618 0.02705 -0.28402 0.0252 -0.30781 0.02775 C -0.34513 0.02636 -0.38211 0.02613 -0.41892 0.01665 C -0.43958 0.00508 -0.4618 0.00393 -0.48368 -0.00024 C -0.5019 0.00115 -0.51909 0.00462 -0.53732 0.00717 C -0.55555 0.01526 -0.57465 0.02243 -0.59357 0.0259 C -0.62951 0.02474 -0.66024 0.02197 -0.69496 0.0185 C -0.72447 0.00878 -0.78333 0.01595 -0.80763 0.01665 C -0.81701 0.01919 -0.82065 0.02081 -0.82586 0.03168 C -0.82777 0.04232 -0.82986 0.05249 -0.83437 0.06151 C -0.83489 0.06521 -0.83489 0.06914 -0.83576 0.07285 C -0.83628 0.07493 -0.83854 0.07608 -0.83854 0.0784 C -0.83958 0.13043 -0.84166 0.12049 -0.83576 0.14408 C -0.83454 0.15402 -0.8342 0.1642 -0.83298 0.17414 C -0.8309 0.19079 -0.82569 0.20698 -0.8217 0.22294 C -0.821 0.22548 -0.81857 0.22641 -0.81736 0.22849 C -0.81527 0.23196 -0.81371 0.23612 -0.8118 0.23982 C -0.80642 0.25069 -0.79878 0.26202 -0.78923 0.26618 C -0.7625 0.3018 -0.71631 0.30804 -0.6809 0.31105 C -0.64027 0.31868 -0.60138 0.31776 -0.55972 0.31868 C -0.54895 0.32354 -0.53836 0.32793 -0.52725 0.33186 C -0.51493 0.34273 -0.50381 0.35152 -0.48923 0.35615 C -0.46788 0.37049 -0.44531 0.37396 -0.42187 0.37858 C -0.40555 0.38182 -0.39045 0.38482 -0.37378 0.38621 C -0.34184 0.38436 -0.32465 0.38297 -0.29062 0.38436 C -0.27812 0.38644 -0.2651 0.38829 -0.2526 0.39176 C -0.23923 0.39546 -0.22864 0.40124 -0.21475 0.40309 C -0.20642 0.40749 -0.19809 0.40772 -0.18923 0.4105 C -0.18385 0.41235 -0.17916 0.41581 -0.17378 0.41813 C -0.16579 0.4216 -0.15902 0.42322 -0.15121 0.42738 C -0.15034 0.42877 -0.14965 0.43062 -0.14843 0.43131 C -0.14479 0.43316 -0.13715 0.43501 -0.13715 0.43501 C -0.12725 0.4438 -0.11666 0.44588 -0.10763 0.45374 C -0.0934 0.46623 -0.07916 0.47941 -0.06527 0.49306 C -0.0592 0.49907 -0.05781 0.50878 -0.0526 0.51572 C -0.05104 0.5222 -0.04861 0.52544 -0.04565 0.53075 C -0.04357 0.53445 -0.03993 0.54186 -0.03993 0.54186 C -0.03645 0.55619 -0.04149 0.53954 -0.03437 0.55134 C -0.0335 0.55296 -0.03368 0.55527 -0.03298 0.55689 C -0.0309 0.56174 -0.02968 0.56313 -0.02725 0.56637 E">
                                      <p:cBhvr>
                                        <p:cTn id="15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onclus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arms are beneficial to the commun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er the current system it is inefficient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equitable for police to respond to false alarm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, however, police wish to retain some of the false response they must allow others to enter and compete, and they must price at or above their cos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rified response comes closest to the economic model of competition.  It solves the public vs. private good aspect of alarm respon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1219320" y="1219320"/>
            <a:ext cx="685800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50D2-7F78-4AAF-B018-CF95FA4E52B1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Balance of Costs &amp; Benefi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The cost variables are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own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stallation outlay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$420,03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nthly charg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$453,77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Tahoma"/>
              <a:buAutoNum type="arabi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the Police Departmen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$139,08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onse to false activation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Total Cost: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Tahoma"/>
              </a:rPr>
              <a:t>    $</a:t>
            </a: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1,012,88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1295280"/>
            <a:ext cx="777240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7BED-35D7-487A-94B5-3C18842BA25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685800" y="457200"/>
          <a:ext cx="7924680" cy="5518080"/>
        </p:xfrm>
        <a:graphic>
          <a:graphicData uri="http://schemas.openxmlformats.org/drawingml/2006/table">
            <a:tbl>
              <a:tblPr/>
              <a:tblGrid>
                <a:gridCol w="5562720"/>
                <a:gridCol w="2361960"/>
              </a:tblGrid>
              <a:tr h="651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B.  The Benefit Variables Are</a:t>
                      </a:r>
                      <a:r>
                        <a:rPr b="1" lang="en-US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2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  </a:t>
                      </a:r>
                      <a:r>
                        <a:rPr b="1" lang="en-US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Avoidance of burglari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1 Cost of violent crime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assault and rap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77,62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2 Cost of Property stol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2.1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Cost to Homeowner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69,01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2.2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Incomplete burglar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60,26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1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2.3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Demoralization cos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571680"/>
                          <a:tab algn="l" pos="8002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426,091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D166-C161-4675-AAA8-D99AA2BC00C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Benefit Variables </a:t>
            </a:r>
            <a:br>
              <a:rPr sz="4000"/>
            </a:b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(cont)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772400" y="304920"/>
            <a:ext cx="1212840" cy="263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457200" y="1600200"/>
          <a:ext cx="8229600" cy="4876920"/>
        </p:xfrm>
        <a:graphic>
          <a:graphicData uri="http://schemas.openxmlformats.org/drawingml/2006/table">
            <a:tbl>
              <a:tblPr/>
              <a:tblGrid>
                <a:gridCol w="4572000"/>
                <a:gridCol w="3657600"/>
              </a:tblGrid>
              <a:tr h="822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  </a:t>
                      </a:r>
                      <a:r>
                        <a:rPr b="1" lang="en-US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Avoidance of fir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5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st to Homeowne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st to Insure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moralization Cost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surance Discoun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tal Benefits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: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   </a:t>
                      </a:r>
                      <a:r>
                        <a:rPr b="1" lang="en-US" sz="32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Net Benefit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22,939,748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334,07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cluded in 1.2.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90,9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1,080,905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1144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cc66"/>
                          </a:solidFill>
                          <a:latin typeface="Tahoma"/>
                        </a:rPr>
                        <a:t>$68,0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0E79-99CF-4FD8-A3B4-2F922C573039}" type="slidenum">
              <a:t>5</a:t>
            </a:fld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Benefits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of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Alar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Alarm Owner- Burgla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terrence by yard sig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 break-in alarm sound prevents penet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ce inside the premises-shorter st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milar benefits from preventing spread of fi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the Commu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lice save time for securing alarmed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per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placement/Umbrella effect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1371600"/>
            <a:ext cx="708660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8D3B-D21D-4C2C-A73B-7AB96D50604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Problems With The Current Syste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fficie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er cost to poli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ck of choice to consum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arm activators become criminal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ces do not reflect actual co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ce discrimination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sin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ident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choo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gious and chartable facil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nicipal facil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219320"/>
            <a:ext cx="777240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6674-3676-4746-BEAF-8366600CD8B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Problems</a:t>
            </a:r>
            <a:br>
              <a:rPr sz="4000"/>
            </a:br>
            <a:r>
              <a:rPr b="0" lang="en-US" sz="2400" spc="-1" strike="noStrike" u="sng">
                <a:solidFill>
                  <a:srgbClr val="ffffcc"/>
                </a:solidFill>
                <a:uFillTx/>
                <a:latin typeface="Tahoma"/>
              </a:rPr>
              <a:t>(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continued)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qu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oss subsidization between false activators and non-alarm owners/non–activating owner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1676520"/>
            <a:ext cx="7391520" cy="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66D7-C6F2-4136-803E-5D45CB0BC58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ignificance of false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alarm problem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imated annual national cost is $1.8 billion; 36 million false alarm activations; 10-20% of patrol officer time spent on responding to false alarm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we solve the problem it will add the equivalent of 30,000 officers nationwid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1676520"/>
            <a:ext cx="777240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D5DC-AA0D-4869-A33D-0F4EAD4058C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4T18:46:48Z</dcterms:created>
  <dc:creator>Selma Copper</dc:creator>
  <dc:description/>
  <dc:language>en-US</dc:language>
  <cp:lastModifiedBy>Selma Copper</cp:lastModifiedBy>
  <dcterms:modified xsi:type="dcterms:W3CDTF">2004-10-22T16:35:45Z</dcterms:modified>
  <cp:revision>30</cp:revision>
  <dc:subject/>
  <dc:title>NOT CALLING THE POLICE (first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45996358</vt:r8>
  </property>
  <property fmtid="{D5CDD505-2E9C-101B-9397-08002B2CF9AE}" pid="3" name="_AuthorEmail">
    <vt:lpwstr>scopper@temple.edu</vt:lpwstr>
  </property>
  <property fmtid="{D5CDD505-2E9C-101B-9397-08002B2CF9AE}" pid="4" name="_AuthorEmailDisplayName">
    <vt:lpwstr>Selma Copper</vt:lpwstr>
  </property>
  <property fmtid="{D5CDD505-2E9C-101B-9397-08002B2CF9AE}" pid="5" name="_EmailSubject">
    <vt:lpwstr>Copy of NOT CALLING THE POLICE (first).ppt</vt:lpwstr>
  </property>
  <property fmtid="{D5CDD505-2E9C-101B-9397-08002B2CF9AE}" pid="6" name="_NewReviewCycle">
    <vt:lpwstr/>
  </property>
</Properties>
</file>