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D71-3DA6-4ED3-A856-12C65190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4467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FB2-91CA-497F-ACA0-7CA37EEA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E0F-4D97-4266-A73E-4C38490A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288-0076-47F4-B535-C789DD91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A3C5-8E1B-4E2A-AFBD-9571051B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A21E-DDBC-4BED-B32F-75011427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61BF-54B4-46DF-9CBE-257F37ED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5141-CFD0-4217-95DE-4B7974B8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388-0B9D-4CA8-8E02-21672DA4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79360"/>
            <a:ext cx="7772400" cy="72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9549-CEBA-4F36-9733-13EB5680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9702-4A78-4BF2-B7FC-B69C0A2E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F4D-4CF1-4253-82EF-F3F95700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9305-6F02-44C4-9D45-5D56F8C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C63A-AACC-4A61-84DD-E061BFE5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4467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9164-99EC-4B30-854B-7AB2695A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B42B-6C49-4317-A729-C2E007F8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CCC1-DF1A-4817-A8F0-07D976B3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D04-170D-4514-BB55-5C3EA39C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91F-D534-429E-8219-D0227DCE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9F5-1448-41CF-A7C7-4B6BB62A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79360"/>
            <a:ext cx="7772400" cy="72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EB7-FBD2-4BDD-9DBA-3ED62FB8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D8F-A244-4922-82BE-7184C3FB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BE5-CFCE-418E-B9DF-34A78B9C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6E8-768D-44CA-A8DE-A8BAF39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3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6BBD-8205-4C8B-AC9B-E79B4B7BA5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5725-005E-447B-B45A-E4CC7E6787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boba@fau.edu" TargetMode="External"/><Relationship Id="rId3" Type="http://schemas.openxmlformats.org/officeDocument/2006/relationships/hyperlink" Target="http://www.sagepub.com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644480"/>
            <a:ext cx="79866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Crime Analysts' Hot Ideas</a:t>
            </a: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800" y="2876400"/>
            <a:ext cx="48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Rachel Bo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rida Atlantic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 St. Lucie, F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at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-Oriented Policing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dison, W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1523880"/>
          <a:ext cx="8281800" cy="378792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-Dai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/Month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and Staff-Monthly and Bi-ann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179960" y="2643120"/>
            <a:ext cx="2235240" cy="2200320"/>
          </a:xfrm>
          <a:prstGeom prst="rect">
            <a:avLst/>
          </a:prstGeom>
          <a:noFill/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25880" y="5483160"/>
            <a:ext cx="477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Development of these reports is the focus of this 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lysis within the Model 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varies by level of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process to develop re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ation/response from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timing of re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al preparation of analysis for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Preparation for Meetings: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Ineffective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57360" y="1650960"/>
          <a:ext cx="812304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1650960"/>
                    <a:ext cx="812304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019320" y="2884320"/>
            <a:ext cx="609840" cy="1657440"/>
          </a:xfrm>
          <a:prstGeom prst="downArrowCallout">
            <a:avLst>
              <a:gd name="adj1" fmla="val 25002"/>
              <a:gd name="adj2" fmla="val 25000"/>
              <a:gd name="adj3" fmla="val 45297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79920" y="2865600"/>
            <a:ext cx="609840" cy="1657080"/>
          </a:xfrm>
          <a:prstGeom prst="downArrowCallout">
            <a:avLst>
              <a:gd name="adj1" fmla="val 25002"/>
              <a:gd name="adj2" fmla="val 25000"/>
              <a:gd name="adj3" fmla="val 45287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65600"/>
            <a:ext cx="609840" cy="1657080"/>
          </a:xfrm>
          <a:prstGeom prst="downArrowCallout">
            <a:avLst>
              <a:gd name="adj1" fmla="val 25002"/>
              <a:gd name="adj2" fmla="val 25000"/>
              <a:gd name="adj3" fmla="val 45287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25360" y="2865600"/>
            <a:ext cx="1589400" cy="1784160"/>
          </a:xfrm>
          <a:custGeom>
            <a:avLst/>
            <a:gdLst/>
            <a:ahLst/>
            <a:rect l="l" t="t" r="r" b="b"/>
            <a:pathLst>
              <a:path w="1001" h="1124">
                <a:moveTo>
                  <a:pt x="0" y="1100"/>
                </a:moveTo>
                <a:cubicBezTo>
                  <a:pt x="153" y="1112"/>
                  <a:pt x="306" y="1124"/>
                  <a:pt x="423" y="1064"/>
                </a:cubicBezTo>
                <a:cubicBezTo>
                  <a:pt x="540" y="1004"/>
                  <a:pt x="614" y="897"/>
                  <a:pt x="702" y="740"/>
                </a:cubicBezTo>
                <a:cubicBezTo>
                  <a:pt x="790" y="583"/>
                  <a:pt x="907" y="238"/>
                  <a:pt x="954" y="119"/>
                </a:cubicBezTo>
                <a:cubicBezTo>
                  <a:pt x="1001" y="0"/>
                  <a:pt x="991" y="14"/>
                  <a:pt x="981" y="29"/>
                </a:cubicBezTo>
              </a:path>
            </a:pathLst>
          </a:custGeom>
          <a:noFill/>
          <a:ln cap="sq"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22760" y="2865600"/>
            <a:ext cx="1589040" cy="1784160"/>
          </a:xfrm>
          <a:custGeom>
            <a:avLst/>
            <a:gdLst/>
            <a:ahLst/>
            <a:rect l="l" t="t" r="r" b="b"/>
            <a:pathLst>
              <a:path w="1001" h="1124">
                <a:moveTo>
                  <a:pt x="0" y="1100"/>
                </a:moveTo>
                <a:cubicBezTo>
                  <a:pt x="153" y="1112"/>
                  <a:pt x="306" y="1124"/>
                  <a:pt x="423" y="1064"/>
                </a:cubicBezTo>
                <a:cubicBezTo>
                  <a:pt x="540" y="1004"/>
                  <a:pt x="614" y="897"/>
                  <a:pt x="702" y="740"/>
                </a:cubicBezTo>
                <a:cubicBezTo>
                  <a:pt x="790" y="583"/>
                  <a:pt x="907" y="238"/>
                  <a:pt x="954" y="119"/>
                </a:cubicBezTo>
                <a:cubicBezTo>
                  <a:pt x="1001" y="0"/>
                  <a:pt x="991" y="14"/>
                  <a:pt x="981" y="29"/>
                </a:cubicBezTo>
              </a:path>
            </a:pathLst>
          </a:custGeom>
          <a:noFill/>
          <a:ln cap="sq"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72280" y="2865600"/>
            <a:ext cx="1589040" cy="1784160"/>
          </a:xfrm>
          <a:custGeom>
            <a:avLst/>
            <a:gdLst/>
            <a:ahLst/>
            <a:rect l="l" t="t" r="r" b="b"/>
            <a:pathLst>
              <a:path w="1001" h="1124">
                <a:moveTo>
                  <a:pt x="0" y="1100"/>
                </a:moveTo>
                <a:cubicBezTo>
                  <a:pt x="153" y="1112"/>
                  <a:pt x="306" y="1124"/>
                  <a:pt x="423" y="1064"/>
                </a:cubicBezTo>
                <a:cubicBezTo>
                  <a:pt x="540" y="1004"/>
                  <a:pt x="614" y="897"/>
                  <a:pt x="702" y="740"/>
                </a:cubicBezTo>
                <a:cubicBezTo>
                  <a:pt x="790" y="583"/>
                  <a:pt x="907" y="238"/>
                  <a:pt x="954" y="119"/>
                </a:cubicBezTo>
                <a:cubicBezTo>
                  <a:pt x="1001" y="0"/>
                  <a:pt x="991" y="14"/>
                  <a:pt x="981" y="29"/>
                </a:cubicBezTo>
              </a:path>
            </a:pathLst>
          </a:custGeom>
          <a:noFill/>
          <a:ln cap="sq"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3520" y="213192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ccountability Meet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6800" y="21319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vel of Prep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25280" y="563076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49120" y="1933560"/>
          <a:ext cx="8604360" cy="345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120" y="1933560"/>
                    <a:ext cx="860436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14760" y="2938320"/>
            <a:ext cx="609480" cy="871560"/>
          </a:xfrm>
          <a:prstGeom prst="downArrowCallout">
            <a:avLst>
              <a:gd name="adj1" fmla="val 25002"/>
              <a:gd name="adj2" fmla="val 25000"/>
              <a:gd name="adj3" fmla="val 23833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5120" y="293832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4680" y="2938320"/>
            <a:ext cx="609840" cy="928800"/>
          </a:xfrm>
          <a:prstGeom prst="downArrowCallout">
            <a:avLst>
              <a:gd name="adj1" fmla="val 25002"/>
              <a:gd name="adj2" fmla="val 25000"/>
              <a:gd name="adj3" fmla="val 25384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12280" y="214776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ccountability Meet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40080" y="42130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vel of Prep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" y="4010040"/>
            <a:ext cx="775332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25280" y="563076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938320"/>
            <a:ext cx="609480" cy="871560"/>
          </a:xfrm>
          <a:prstGeom prst="downArrowCallout">
            <a:avLst>
              <a:gd name="adj1" fmla="val 25002"/>
              <a:gd name="adj2" fmla="val 25000"/>
              <a:gd name="adj3" fmla="val 23833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paration for Meetings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deal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Repeat Incident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or more inci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in nature and have happened at the same place (typically) or by the same per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hours, days and in some cases weeks of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for service and accident repor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Repeat Incident (RI)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Report Developmen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407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with experience with 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who will address 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me analy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curr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of calls (accidents) by month for one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down of type of call by address (or blo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Repeat Incident (RI)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Report Developmen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types substan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within the city or distri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types may stand alone (e.g., ala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may be combined (e.g., domestics, juvenile trouble, disturban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reshold for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period (no more than four wee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alls per address (manageable level of 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ekly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g time period (e.g., one new week of da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iminate common addresses (e.g., police department, hospita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ustments after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45160" y="6399360"/>
            <a:ext cx="24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rtesy of Port St. Lucie, FL P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7680" y="987480"/>
            <a:ext cx="31636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ample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 calls inclu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rco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tr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venile tr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11 hang 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estic tr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h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urb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tally 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62520" y="270000"/>
            <a:ext cx="4975200" cy="6475320"/>
            <a:chOff x="3962520" y="270000"/>
            <a:chExt cx="4975200" cy="647532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962520" y="270000"/>
              <a:ext cx="4975200" cy="32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962520" y="3527280"/>
              <a:ext cx="4975200" cy="321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45160" y="6399360"/>
            <a:ext cx="24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rtesy of Port St. Lucie, FL P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680" y="309600"/>
            <a:ext cx="338148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xample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629160" y="755640"/>
            <a:ext cx="5514840" cy="5643360"/>
            <a:chOff x="3629160" y="755640"/>
            <a:chExt cx="5514840" cy="56433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629160" y="755640"/>
              <a:ext cx="5514840" cy="38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3629160" y="4559400"/>
              <a:ext cx="5514840" cy="1839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atter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r more crimes or serious incidents that seem to be related by victim, offender, location, or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most concern are predatory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 over days, weeks, or months, in rare cases, ove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me report and MO data impe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522360"/>
            <a:ext cx="8001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rime Analysis and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roblem-Oriented Policing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099880"/>
            <a:ext cx="83930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personnel require different types of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odel to think about problem solving, analysis, and accoun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ttern Analysis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Development</a:t>
            </a: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crim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of crimes by specific type per month for on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olicited analysis (Crime Analysts conduct without requests/on a regular ba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tern bulletin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Unsolicited Crime Pattern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rt St. Lucie, FL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glary, res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glary, convey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glary, construction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d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ft of specific types of proper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of field interview cards and suspicious inc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106200"/>
            <a:ext cx="80010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ttern Bulletin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072800"/>
            <a:ext cx="830880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Activity and Geograph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o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rrative summary of the patter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pect/Investigative Lead/Victim Summ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ble of relevant information about each c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or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n relevant a visual summary of the days and/or times of the patt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ti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p of the incidents and any relevant information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ore information see Boba (2005)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ime Analysis and Crime Mapp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age Pub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95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xample Bullet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581280" y="0"/>
          <a:ext cx="53024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0"/>
                    <a:ext cx="5302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blem Scanning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of counts every six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two years of data (at le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in the context of RI and pattern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long term problems if RI and pattern responses are not working over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1062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Robbery Example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07880" y="2198520"/>
          <a:ext cx="843120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880" y="2198520"/>
                    <a:ext cx="8431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 flipV="1">
            <a:off x="1320840" y="5210280"/>
            <a:ext cx="6894360" cy="8712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7880" y="941400"/>
            <a:ext cx="8431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me is not dramatically increa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7880" y="1292400"/>
            <a:ext cx="843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patterns in August ‘05 and May ‘06 explain the pea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1657440"/>
            <a:ext cx="8431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counts very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3527280"/>
            <a:ext cx="812880" cy="75420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04160" y="2925720"/>
            <a:ext cx="812520" cy="75420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5720" y="4013280"/>
            <a:ext cx="88920" cy="2111400"/>
          </a:xfrm>
          <a:custGeom>
            <a:avLst/>
            <a:gdLst>
              <a:gd name="textAreaLeft" fmla="*/ 56880 w 88920"/>
              <a:gd name="textAreaRight" fmla="*/ 89280 w 88920"/>
              <a:gd name="textAreaTop" fmla="*/ 54720 h 2111400"/>
              <a:gd name="textAreaBottom" fmla="*/ 2056680 h 211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533520" y="2322360"/>
          <a:ext cx="8319960" cy="43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322360"/>
                    <a:ext cx="831996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062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Residential Burglary Example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22360" y="3163680"/>
            <a:ext cx="6865920" cy="116028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01880" y="941400"/>
            <a:ext cx="7837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hough crime is going up and down month to month, the trend line indicates overall incr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1880" y="1552680"/>
            <a:ext cx="78372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s high enough to be confident in overall incr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select as problem to address beyond pattern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44640" y="2743200"/>
            <a:ext cx="88920" cy="184320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43200"/>
              <a:gd name="textAreaBottom" fmla="*/ 1795320 h 18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nalysis can be automated (e.g., repeat incident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levels inform problem ana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analysis difficult to routi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lower level activity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activity from incre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: unpredictable/random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18960" y="1074600"/>
            <a:ext cx="31212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act Informa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Rachel Bo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rboba@fau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k availab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www.sagepub.co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281480" y="380880"/>
            <a:ext cx="426708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6160" y="341280"/>
            <a:ext cx="68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Problem-Oriented Levels of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3600" y="987480"/>
            <a:ext cx="67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</a:rPr>
              <a:t>Immediate Analysis and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8360" y="593712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</a:rPr>
              <a:t>Long Term Analysis and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5520" y="2368440"/>
            <a:ext cx="698184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ts and Serious In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In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880" y="1704960"/>
            <a:ext cx="257040" cy="4044960"/>
          </a:xfrm>
          <a:prstGeom prst="downArrow">
            <a:avLst>
              <a:gd name="adj1" fmla="val 50000"/>
              <a:gd name="adj2" fmla="val 393417"/>
            </a:avLst>
          </a:prstGeom>
          <a:solidFill>
            <a:srgbClr val="99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” distingu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s all r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ability reflects traditional model of poli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timing of accoun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tegrated Model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1176480" y="1417680"/>
            <a:ext cx="6878520" cy="4707000"/>
          </a:xfrm>
          <a:prstGeom prst="rect">
            <a:avLst/>
          </a:prstGeom>
          <a:gradFill rotWithShape="0">
            <a:gsLst>
              <a:gs pos="0">
                <a:srgbClr val="9ab2c1"/>
              </a:gs>
              <a:gs pos="50000">
                <a:srgbClr val="ccecff"/>
              </a:gs>
              <a:gs pos="100000">
                <a:srgbClr val="9ab2c1"/>
              </a:gs>
            </a:gsLst>
            <a:lin ang="5400000"/>
          </a:gra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874960" y="1886040"/>
            <a:ext cx="4141440" cy="3222360"/>
            <a:chOff x="2874960" y="1886040"/>
            <a:chExt cx="4141440" cy="3222360"/>
          </a:xfrm>
        </p:grpSpPr>
        <p:sp>
          <p:nvSpPr>
            <p:cNvPr id="96" name=""/>
            <p:cNvSpPr/>
            <p:nvPr/>
          </p:nvSpPr>
          <p:spPr>
            <a:xfrm>
              <a:off x="2874960" y="1886040"/>
              <a:ext cx="0" cy="32223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74960" y="5108400"/>
              <a:ext cx="41414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506240" y="311616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9000" y="55483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vel of A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99160" y="188604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i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69560" y="47419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240" y="52070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6160" y="52070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54560" y="2757600"/>
            <a:ext cx="3178080" cy="198432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31560" y="3589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Problem Solv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36400" y="24210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ccount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54560" y="1941480"/>
            <a:ext cx="3178080" cy="198432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54560" y="3925800"/>
            <a:ext cx="0" cy="77796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11400" y="3108240"/>
            <a:ext cx="4680" cy="80964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5440" y="2220840"/>
            <a:ext cx="0" cy="81756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1523880"/>
          <a:ext cx="8281800" cy="368136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1523880"/>
          <a:ext cx="8281800" cy="368136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-Dai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523880"/>
          <a:ext cx="8281800" cy="368136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-Dai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1523880"/>
          <a:ext cx="8281800" cy="368136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-Dai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/Month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41:42Z</dcterms:created>
  <dc:creator>Rachel Boba</dc:creator>
  <dc:description/>
  <dc:language>en-US</dc:language>
  <cp:lastModifiedBy>Rachel Boba</cp:lastModifiedBy>
  <dcterms:modified xsi:type="dcterms:W3CDTF">2006-09-23T13:54:37Z</dcterms:modified>
  <cp:revision>476</cp:revision>
  <dc:subject/>
  <dc:title>PowerPoint Presentation</dc:title>
</cp:coreProperties>
</file>